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7B69-F087-4527-A569-6B64C1778C2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изация темы: «Подросток как граждани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f42"/>
                </a:solidFill>
                <a:latin typeface="Calibri"/>
              </a:rPr>
              <a:t>Выполните следующие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3F34-E171-4AB0-BE8D-80F688122091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2bf6"/>
                </a:solidFill>
                <a:latin typeface="Calibri"/>
              </a:rPr>
              <a:t>Право на неприкосновенность жилищ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ойти в дом помимо воли тех, кто там проживает нельз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не открывать дверь незнакомцам или даже надоедливым соседям, с которыми не хочешь общ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о при пожарах, землетрясениях, непредвиденных обстоятельствах или при защите правопорядка допускается отступление от этого прави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60DF-8EE3-4518-8CB1-8F60CA826D7B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Calibri"/>
              </a:rPr>
              <a:t>Гражданин нашей страны сам выбирает место своего жительства, может свободно передвигаться по стране и выезжать за ее преде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79DC-61BB-4908-B230-14E2EC2BD715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Экономические права:</a:t>
            </a:r>
            <a:br>
              <a:rPr sz="1600"/>
            </a:br>
            <a:r>
              <a:rPr b="0" lang="ru-RU" sz="1400" spc="-1" strike="noStrike">
                <a:solidFill>
                  <a:srgbClr val="fb2bf6"/>
                </a:solidFill>
                <a:latin typeface="Calibri"/>
              </a:rPr>
              <a:t>право на труд и свободный выбор професс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раво на защиту от экономической эксплуат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Минимальный возраст для приема на работ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15 л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 письменного согласия родителей или опекунов можно устроиться работать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14 л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может заставить ребенка заниматься тяжелым трудом, вредным для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не заставляет гражданина трудиться, это его право, а не обяза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Если человек хочет работать, но не может найти работу, то государство защищает его от безработ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1E8E-F7B8-4D65-B76A-478A25DF7E03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раво на отдых и дос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гарантирует каждому гражданину это право путем предоставления отпуска всем работающ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 поощряет создание туристических баз, домов отдыха, санатори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9C66-27BC-4FF2-8C23-CDE2C4B8F061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осударство защищает </a:t>
            </a:r>
            <a:br>
              <a:rPr sz="1600"/>
            </a:b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детство и материн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о случаю рождения ребенка родителям предоставляется отпус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дному из родителей</a:t>
            </a: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ыплачиваются денежные компенсации в виде пособий единовременных и ежемесяч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2E1A-6EEC-4396-97B5-A1890FBC97A0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Право на охрану здоровья и медицинскую помощ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 России действует страховая медици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Лечение граждан оплачивают страховые комп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ервая медицинская помощь оказывается беспла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4118-961D-406C-9B76-A7573B2DD4D9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Право на социальное обеспеч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мог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Инвалидам с дет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Людям получившим увечья, и ставшими поэтому нетрудоспособ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ражданам преклонного возраста, ставшими нетрудоспособными по возрас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0E40-1936-4F11-95E1-81E3657DC0E4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раво на 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Это возможность получить знания, навыки необходимые для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Без хорошего образования человек не сможет найти интересное, важное дело, добиться успех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У детей должна быть возможность выбора, где и чему учиться, независимо от материального состояния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Библиотеки, театры и музеи должны быть доступны для учеников, развитие творческих способностей детей – одна из целей обра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овершайте открытия, изобретайте новое, участвуйте в конкурсах и фестива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BDD51-2E3F-4F42-8F3B-E3E74771DDF7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«Об образова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Образование можно получать в разных формах: обучаясь в школе (в государственной или частной), дома, в форме экстерната и т.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ыпускники по окончанию школы сдают государственные экзамены (проходят аттестацию), по результатам которых выдается документ об образовании, за особые успехи в обучении выпускники могут награждаться золотой и серебряной медал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Аттестат дает право получить обучение в училище, колледже, ВУЗ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озможно на конкурсной основе поступить на бесплатное обучение в ВУЗы, для этого нужно сдать экзамены и набрать необходимое количество бал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D631-8C4D-48A5-BB09-2FEE591AD174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2bf6"/>
                </a:solidFill>
                <a:latin typeface="Calibri"/>
              </a:rPr>
              <a:t>Право на получение 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обращаться за помощью к взрослым (родителям и учителя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идти в библиотеку, чтобы найти ответы на  вопросы, интересующие теб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подключиться к компьютерным сет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выражать свои взгляды и обсуждать важные вопросы через средства массовой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D9C1-46A6-435D-8BA8-567B5342550D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правильное соответ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Собр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Право на участие в ведении государственных дел и в правосу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Митин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Многолюдные мероприятия людей. Выражающих те или иные взгляды, иногда сопровождающиеся перемещением по определенному маршру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Демонс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Совместное присутствие группы людей в определенном месте для обсуждения или решения какой – либо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Вы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Форма выражения мнения людей с целью публичного высказывания по конкретному вопро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242D-4066-4D28-9784-984E86A54448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лохих детей не бывает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Никто и никогда не должен быть жестоким по отношению к де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D5D7-407B-4B19-A59B-28A655E838AC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пределите,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ыли соблюдены права или нет,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кажите почему вы так думает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c1e4d"/>
                </a:solidFill>
                <a:latin typeface="Calibri"/>
              </a:rPr>
              <a:t>Во время пожара дверь в квартиру выбита, и подросток, находившийся в комнате без сознания, был вынесен на улиц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c1e4d"/>
                </a:solidFill>
                <a:latin typeface="Calibri"/>
              </a:rPr>
              <a:t>16-летний молодой человек не был принят на работу, так как у него не оказалось письменного разрешения от обоих р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c1e4d"/>
                </a:solidFill>
                <a:latin typeface="Calibri"/>
              </a:rPr>
              <a:t>8-летняя девочка, у которой из-за болезни были парализованы ноги. Вынуждена была уйти из школы и не получила среднее образ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9863-97D9-4B50-90A7-D90797BB811A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правильный от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1.Самым важным и неотъемлемым право каждого человека с рождения является право н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образование;         б) жизнь;                      в) переезд в другую стра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2.Права подростка гарантиру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государством;        б) самим подростком;               в) род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3.К реализации права на личную жизнь относи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выбор места учеб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б) тайна телефонных разгов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) участие в выбо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4.Право на труд входит в групп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культурных прав;      б) политических прав;      в) экономических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5.Правом на социальное обеспечение могут пользовать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мужчины трудоспособного возраста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б) пенсионер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) лица без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2A91-7E8D-4C1A-9D67-D11756753331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Подумайте над вопросом: как вы считаете отличаются ли права ребенка от прав взросл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Перечислите, какими из прав вы реально пользуетесь в свое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354A-78AA-42CB-891C-789668C161AD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тавьте недостающие слова (понятия) в предло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 должен платить ___________________. Эти деньги поступают в казну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ормам семейного права гражданин обязан заботься о ________________________________________________, 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беспечения безопасности государства и его граждан существует обязанность ____________________________  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ях сохранения культурного наследия граждане обязаны 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 обязан соблюдать ________________________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7910-81A6-4BB0-86F7-D61EC85FC9E4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осто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е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c1e4d"/>
                </a:solidFill>
                <a:latin typeface="Calibri"/>
              </a:rPr>
              <a:t>Как вы считаете, отличаются ли права ребенка и подростка от прав взрослого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2A00-C8DB-4634-8955-3E0AD2EA4372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раво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озможность что – либо делать, поступать определенным образом, иметь что-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1FAA-0B4F-4541-BF12-5056134B0789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2bf6"/>
                </a:solidFill>
                <a:latin typeface="Calibri"/>
              </a:rPr>
              <a:t>Право на жиз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ажное и неотъемлемое право для каждого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раво не надо понимать как разрешение или запрет; право – не подарок за хорошее поведение и не привилегия, а такая же необходимость, как воздух, как солнц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раво на жизнь означает, что государство, вся мощь его институтов, учреждений и организаций, направлены на защиту жизни подрост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Жизнь ребенку дают родители, а право на жизнь гарантирует ему 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E075-E9D1-46D7-AA40-6E5A48F5AEB9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Право на свободу и</a:t>
            </a:r>
            <a:br>
              <a:rPr sz="1600"/>
            </a:b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 личную неприкосновен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вободный человек отвечает за себя сам – и никто друг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вобода состоит в праве делать все то, что не вредит друг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может насильно удерживать другого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может унижать и оскорблять другого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36BA-E604-4B0A-B845-C4F9F57E2261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о правах ребенка</a:t>
            </a:r>
            <a:br>
              <a:rPr sz="12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(принят Организацией Объединенных Наций – ООН в 1989 г.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c1e4d"/>
                </a:solidFill>
                <a:latin typeface="Calibri"/>
              </a:rPr>
              <a:t>Каждый ребенок имеет право знать своих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c1e4d"/>
                </a:solidFill>
                <a:latin typeface="Calibri"/>
              </a:rPr>
              <a:t>Родители несут ответственность за ребенка и должны обеспечить ему нормальные условия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Но, к сожалению, полтора миллиона детей в России никогда не знали маминой ласки и папиной з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FB7A-5684-430F-872D-FD517359CA64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2bf6"/>
                </a:solidFill>
                <a:latin typeface="Calibri"/>
              </a:rPr>
              <a:t>Право на неприкосновенность личной жиз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фера жизни человека, в которую государство не имеет право вмешиваться и которая не подлежит контролю с его стороны, и она охраняется закон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Тайный характер частной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имеет права читать чужие письма, подслушивать телефонные разговоры, собирать сведения о личной жизни челове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без разрешения прокура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3E05-DC51-48D9-A487-A0627E679583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BBE26-BB8F-4C50-889F-B0FC9571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902EE-BB44-4CF3-8AF2-1428455DD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6014C-6981-46A4-9344-731635F9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A0F41-921F-4E46-88D5-2CE7C933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41C9-B63A-457F-B6E0-30F3FAD0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DE29-FB79-4D02-AC22-D21E1F75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0FED4-CDFA-4266-8A0E-8C8B16D7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7975-EC41-40AC-AAD4-01381F3E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2DC9-2804-4A64-8DA7-70C5702E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C34C-8105-4775-A489-17748362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6164-96BC-4944-9A7F-D2C21484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DA1F4-BEE7-437C-BEA2-F1C2CC53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3ABB-EBB5-45F0-9E61-8C8A7196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421A-6562-4EA6-A4B5-63E08ECC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2D90-068C-489E-A4B3-6095E790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4B68-3065-4034-877F-F3399E9F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FEF9-C2FC-49C2-94C6-2DA68E02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D014F-D941-46D9-9240-7F9DAAEB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EF5F5-6E82-47D4-B468-D334736A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4BFB1-A024-4AEC-BF2E-2D354620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EEA67-C5A5-4E0C-97B2-5BA79290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297CE-DD73-43A5-97ED-D5440009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C9B2E-3B59-4681-B460-DA1C7D54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C96B2-2E92-4F70-86C3-2740FEE9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0167A-E274-4C80-A02E-13871E21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DD1DF-F38B-4981-9DA6-098EA5F4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FAF2E-AFF2-4E96-9888-EC6142D8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62267-343F-4661-BB49-246A1C0B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38040-31A9-432F-BDB6-AC1C618C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65A50-9994-4B72-A5F5-E7E51841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7BCEB-1B61-4A02-8FA9-87FE7632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D5170-E92A-4E22-BA52-063D20A0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A3CE1-C32D-44D6-87C6-D7FA9A9F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03DB5-C04C-458D-B6E5-9C82BF8E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775F1-747E-452A-B97A-16C43D6C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F1EF9-B8B3-481B-BCF3-89B795FC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35D95-1AB1-45A3-8566-8B774EF6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C338E-1D5C-4772-896A-A9DFA005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80A91-9F0E-42B5-A6A9-3CEFCFDF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929D9-2D3E-42C5-98A4-D576F7D4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A6818-3236-4BB7-97F8-F70D413A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2C9E1-830B-44BC-B940-9E345BE4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E273A-938E-4F2E-9873-B47B81D0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12EFC-27BB-4E0C-AE69-FA095CE2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C6CC9-5C79-4D9F-BEE1-9EB4E36C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D825B-2C37-429A-8AB7-2A5F35E2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9DFCA-0B9E-485C-AC1A-B54F6272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A3B34-CFBB-40DB-823D-8796EFE8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502E-7FDE-4514-AB78-FD7AE76F86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5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5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0EBA-5F87-46AE-90DE-78CEF7D24C0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6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7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99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100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101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</p:grpSp>
        <p:sp>
          <p:nvSpPr>
            <p:cNvPr id="102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94C4-2A45-4A21-BD63-FB9926F714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42FA-763C-4BB0-A06D-53B47616813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Актуализация темы: «Подросток как гражданин»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43f42"/>
                </a:solidFill>
                <a:latin typeface="Verdana"/>
              </a:rPr>
              <a:t>Выполните следующие зада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неприкосновенность жилища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5977080" cy="50688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Войти в дом помимо воли тех, кто там проживает нельзя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не открывать дверь незнакомцам или даже надоедливым соседям, с которыми не хочешь общаться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Но при пожарах, землетрясениях, непредвиденных обстоятельствах или при защите правопорядка допускается отступление от этого правила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28" name="Picture 21" descr="HOUSELIGHTSWEEP-MOTION3-W"/>
          <p:cNvPicPr/>
          <p:nvPr/>
        </p:nvPicPr>
        <p:blipFill>
          <a:blip r:embed="rId1"/>
          <a:stretch/>
        </p:blipFill>
        <p:spPr>
          <a:xfrm>
            <a:off x="6372360" y="1628640"/>
            <a:ext cx="2520720" cy="504036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29068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99"/>
                </a:solidFill>
                <a:latin typeface="Garamond"/>
              </a:rPr>
              <a:t>Гражданин нашей страны сам выбирает место своего жительства, может свободно передвигаться по стране и выезжать за ее пределы</a:t>
            </a:r>
            <a:endParaRPr b="1" lang="en-US" sz="36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231" name="Picture 12" descr="image052"/>
          <p:cNvPicPr/>
          <p:nvPr/>
        </p:nvPicPr>
        <p:blipFill>
          <a:blip r:embed="rId1"/>
          <a:stretch/>
        </p:blipFill>
        <p:spPr>
          <a:xfrm>
            <a:off x="457200" y="3716280"/>
            <a:ext cx="8686800" cy="992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" descr="image051"/>
          <p:cNvPicPr/>
          <p:nvPr/>
        </p:nvPicPr>
        <p:blipFill>
          <a:blip r:embed="rId2"/>
          <a:stretch/>
        </p:blipFill>
        <p:spPr>
          <a:xfrm>
            <a:off x="324000" y="2565360"/>
            <a:ext cx="8362800" cy="6620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5" descr="image053"/>
          <p:cNvPicPr/>
          <p:nvPr/>
        </p:nvPicPr>
        <p:blipFill>
          <a:blip r:embed="rId3"/>
          <a:stretch/>
        </p:blipFill>
        <p:spPr>
          <a:xfrm>
            <a:off x="324000" y="5229360"/>
            <a:ext cx="8569080" cy="88092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b2bf6"/>
                </a:solidFill>
                <a:latin typeface="Garamond"/>
              </a:rPr>
              <a:t>Экономические права:</a:t>
            </a:r>
            <a:br>
              <a:rPr sz="3200"/>
            </a:br>
            <a:r>
              <a:rPr b="1" lang="ru-RU" sz="2800" spc="-1" strike="noStrike">
                <a:solidFill>
                  <a:srgbClr val="fb2bf6"/>
                </a:solidFill>
                <a:latin typeface="Garamond"/>
              </a:rPr>
              <a:t>право на труд и свободный выбор профессии</a:t>
            </a:r>
            <a:endParaRPr b="1" lang="en-US" sz="28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236" name="Picture 8" descr="janitor"/>
          <p:cNvPicPr/>
          <p:nvPr/>
        </p:nvPicPr>
        <p:blipFill>
          <a:blip r:embed="rId1"/>
          <a:stretch/>
        </p:blipFill>
        <p:spPr>
          <a:xfrm>
            <a:off x="179280" y="3860640"/>
            <a:ext cx="2384640" cy="29973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050560" y="1412640"/>
            <a:ext cx="6913800" cy="521316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Право на защиту от экономической эксплуатации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2bf6"/>
                </a:solidFill>
                <a:latin typeface="Garamond"/>
              </a:rPr>
              <a:t>Минимальный возраст для приема на работу</a:t>
            </a:r>
            <a:r>
              <a:rPr b="1" lang="ru-RU" sz="24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b2bf6"/>
                </a:solidFill>
                <a:latin typeface="Garamond"/>
              </a:rPr>
              <a:t>15 лет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Garamond"/>
              </a:rPr>
              <a:t>С письменного согласия родителей или опекунов можно устроиться работать в 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Garamond"/>
              </a:rPr>
              <a:t>     </a:t>
            </a:r>
            <a:r>
              <a:rPr b="1" i="1" lang="ru-RU" sz="2400" spc="-1" strike="noStrike">
                <a:solidFill>
                  <a:srgbClr val="ffcc00"/>
                </a:solidFill>
                <a:latin typeface="Garamond"/>
              </a:rPr>
              <a:t>14 лет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Никто не может заставить ребенка заниматься тяжелым трудом, вредным для здоровья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Государство не заставляет гражданина трудиться, это его право, а не обязанность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Если человек хочет работать, но не может найти работу, то государство защищает его от безработицы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38" name="Picture 14" descr="image127"/>
          <p:cNvPicPr/>
          <p:nvPr/>
        </p:nvPicPr>
        <p:blipFill>
          <a:blip r:embed="rId2"/>
          <a:stretch/>
        </p:blipFill>
        <p:spPr>
          <a:xfrm>
            <a:off x="468360" y="1557360"/>
            <a:ext cx="1582560" cy="2016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b2bf6"/>
                </a:solidFill>
                <a:latin typeface="Garamond"/>
              </a:rPr>
              <a:t>Право на отдых и досуг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27280" y="1341000"/>
            <a:ext cx="6059520" cy="504036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осударство гарантирует каждому гражданину это право путем предоставления отпуска всем работающим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осударство  поощряет создание туристических баз, домов отдыха, санаториев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42" name="Picture 7" descr="a90"/>
          <p:cNvPicPr/>
          <p:nvPr/>
        </p:nvPicPr>
        <p:blipFill>
          <a:blip r:embed="rId1"/>
          <a:stretch/>
        </p:blipFill>
        <p:spPr>
          <a:xfrm>
            <a:off x="179280" y="1413000"/>
            <a:ext cx="2232000" cy="2447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" descr="image121"/>
          <p:cNvPicPr/>
          <p:nvPr/>
        </p:nvPicPr>
        <p:blipFill>
          <a:blip r:embed="rId2"/>
          <a:stretch/>
        </p:blipFill>
        <p:spPr>
          <a:xfrm>
            <a:off x="179280" y="4292640"/>
            <a:ext cx="2297160" cy="191916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8c1ba"/>
                </a:solidFill>
                <a:latin typeface="Garamond"/>
              </a:rPr>
              <a:t>Государство защищает </a:t>
            </a:r>
            <a:br>
              <a:rPr sz="4000"/>
            </a:b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детство и материнство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5977080" cy="514188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По случаю рождения ребенка родителям предоставляется отпуск</a:t>
            </a:r>
            <a:r>
              <a:rPr b="1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(</a:t>
            </a: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одному из родителей</a:t>
            </a: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)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Выплачиваются денежные компенсации в виде пособий единовременных и ежемесячных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47" name="Picture 6" descr="bebe01"/>
          <p:cNvPicPr/>
          <p:nvPr/>
        </p:nvPicPr>
        <p:blipFill>
          <a:blip r:embed="rId1"/>
          <a:stretch/>
        </p:blipFill>
        <p:spPr>
          <a:xfrm>
            <a:off x="5830920" y="2133720"/>
            <a:ext cx="3313080" cy="324000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охрану здоровья и медицинскую помощь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400720" cy="499752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В России действует страховая медицина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Лечение граждан оплачивают страховые компании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Первая медицинская помощь оказывается бесплатно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51" name="Picture 6" descr="8f1"/>
          <p:cNvPicPr/>
          <p:nvPr/>
        </p:nvPicPr>
        <p:blipFill>
          <a:blip r:embed="rId1"/>
          <a:stretch/>
        </p:blipFill>
        <p:spPr>
          <a:xfrm>
            <a:off x="250920" y="3284640"/>
            <a:ext cx="2736720" cy="309564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социальное обеспечение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5184720" cy="54720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осударство </a:t>
            </a: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помогает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Инвалидам с детства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Людям получившим увечья, и ставшими поэтому нетрудоспособными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ражданам преклонного возраста, ставшими нетрудоспособными по возрасту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55" name="Picture 6" descr="12"/>
          <p:cNvPicPr/>
          <p:nvPr/>
        </p:nvPicPr>
        <p:blipFill>
          <a:blip r:embed="rId1"/>
          <a:stretch/>
        </p:blipFill>
        <p:spPr>
          <a:xfrm>
            <a:off x="5400720" y="1773360"/>
            <a:ext cx="3743280" cy="396072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b2bf6"/>
                </a:solidFill>
                <a:latin typeface="Garamond"/>
              </a:rPr>
              <a:t>Право на образование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124000" y="1197000"/>
            <a:ext cx="6732720" cy="54720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Это возможность получить знания, навыки необходимые для жизни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Без хорошего образования человек не сможет найти интересное, важное дело, добиться успеха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У детей должна быть возможность выбора, где и чему учиться, независимо от материального состояния родителей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Библиотеки, театры и музеи должны быть доступны для учеников, развитие творческих способностей детей – одна из целей образования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Совершайте открытия, изобретайте новое, участвуйте в конкурсах и фестивалях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59" name="Picture 5" descr="aluno01"/>
          <p:cNvPicPr/>
          <p:nvPr/>
        </p:nvPicPr>
        <p:blipFill>
          <a:blip r:embed="rId1"/>
          <a:stretch/>
        </p:blipFill>
        <p:spPr>
          <a:xfrm>
            <a:off x="0" y="1773360"/>
            <a:ext cx="2448000" cy="446544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1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Закон «Об образовании»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b2bf6"/>
                </a:solidFill>
                <a:latin typeface="Garamond"/>
              </a:rPr>
              <a:t>Образование можно получать в разных формах: обучаясь в школе (в государственной или частной), дома, в форме экстерната и т.д.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Выпускники по окончанию школы сдают государственные экзамены (проходят аттестацию), по результатам которых выдается документ об образовании, за особые успехи в обучении выпускники могут награждаться золотой и серебряной медалью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b2bf6"/>
                </a:solidFill>
                <a:latin typeface="Garamond"/>
              </a:rPr>
              <a:t>Аттестат дает право получить обучение в училище, колледже, ВУЗе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Возможно на конкурсной основе поступить на бесплатное обучение в ВУЗы, для этого нужно сдать экзамены и набрать необходимое количество баллов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получение информации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6049800" cy="52560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обращаться за помощью к взрослым (родителям и учителям)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идти в библиотеку, чтобы найти ответы на  вопросы, интересующие тебя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подключиться к компьютерным сетям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выражать свои взгляды и обсуждать важные вопросы через средства массовой информации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66" name="Picture 6" descr="image695"/>
          <p:cNvPicPr/>
          <p:nvPr/>
        </p:nvPicPr>
        <p:blipFill>
          <a:blip r:embed="rId1"/>
          <a:stretch/>
        </p:blipFill>
        <p:spPr>
          <a:xfrm>
            <a:off x="6443640" y="1413000"/>
            <a:ext cx="2521080" cy="51116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cc"/>
                </a:solidFill>
                <a:latin typeface="Arial"/>
              </a:rPr>
              <a:t>Найдите правильное соответствие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370160" y="1827360"/>
          <a:ext cx="7245360" cy="4090680"/>
        </p:xfrm>
        <a:graphic>
          <a:graphicData uri="http://schemas.openxmlformats.org/drawingml/2006/table">
            <a:tbl>
              <a:tblPr/>
              <a:tblGrid>
                <a:gridCol w="2108160"/>
                <a:gridCol w="5137200"/>
              </a:tblGrid>
              <a:tr h="35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Понятие</a:t>
                      </a:r>
                      <a:endParaRPr b="0" lang="en-US" sz="15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Определение</a:t>
                      </a:r>
                      <a:endParaRPr b="0" lang="en-US" sz="15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aaae"/>
                    </a:solidFill>
                  </a:tcPr>
                </a:tc>
              </a:tr>
              <a:tr h="682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1.Собрания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А.Право на участие в ведении государственных дел и в правосудии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2.Митинги 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Б.Многолюдные мероприятия людей. Выражающих те или иные взгляды, иногда сопровождающиеся перемещением по определенному маршруту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3.Демонстрации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В.Совместное присутствие группы людей в определенном месте для обсуждения или решения какой – либо проблемы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4.Выборы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Г.Форма выражения мнения людей с целью публичного высказывания по конкретному вопросу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90360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Плохих детей не бывает.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Никто и никогда не должен быть жестоким по отношению к детям.</a:t>
            </a: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Определите,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были соблюдены права или нет,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кажите почему вы так думаете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c1e4d"/>
                </a:solidFill>
                <a:latin typeface="Verdana"/>
              </a:rPr>
              <a:t>Во время пожара дверь в квартиру выбита, и подросток, находившийся в комнате без сознания, был вынесен на улицу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c1e4d"/>
                </a:solidFill>
                <a:latin typeface="Verdana"/>
              </a:rPr>
              <a:t>16-летний молодой человек не был принят на работу, так как у него не оказалось письменного разрешения от обоих родителей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c1e4d"/>
                </a:solidFill>
                <a:latin typeface="Verdana"/>
              </a:rPr>
              <a:t>8-летняя девочка, у которой из-за болезни были парализованы ноги. Вынуждена была уйти из школы и не получила среднее образован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Найдите правильный отве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1.Самым важным и неотъемлемым право каждого человека с рождения является право на 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образование;         б) жизнь;                      в) переезд в другую стран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2.Права подростка гарантируют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государством;        б) самим подростком;               в) родителя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3.К реализации права на личную жизнь относит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выбор места учебы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б) тайна телефонных разговоров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в) участие в выбора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4.Право на труд входит в группу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культурных прав;      б) политических прав;      в) экономических пра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5.Правом на социальное обеспечение могут пользовать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мужчины трудоспособного возраста;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б) пенсионеры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в) лица без гражданств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Домашнее задание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99"/>
                </a:solidFill>
                <a:latin typeface="Verdana"/>
              </a:rPr>
              <a:t>Подумайте над вопросом: как вы считаете отличаются ли права ребенка от прав взрослого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99"/>
                </a:solidFill>
                <a:latin typeface="Verdana"/>
              </a:rPr>
              <a:t>Перечислите, какими из прав вы реально пользуетесь в своей жизн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cc"/>
                </a:solidFill>
                <a:latin typeface="Arial"/>
              </a:rPr>
              <a:t>Вставьте недостающие слова (понятия) в предложения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ражданин должен платить ___________________. Эти деньги поступают в казну государств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о нормам семейного права гражданин обязан заботься о ________________________________________________, ________________________________________________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Для обеспечения безопасности государства и его граждан существует обязанность ____________________________  ________________________________________________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 целях сохранения культурного наследия граждане обязаны _________________________________________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ражданин обязан соблюдать ________________________ государств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29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8c1ba"/>
                </a:solidFill>
                <a:latin typeface="Garamond"/>
              </a:rPr>
              <a:t>Подросток </a:t>
            </a:r>
            <a:br>
              <a:rPr sz="6000"/>
            </a:br>
            <a:r>
              <a:rPr b="1" lang="ru-RU" sz="6000" spc="-1" strike="noStrike">
                <a:solidFill>
                  <a:srgbClr val="d8c1ba"/>
                </a:solidFill>
                <a:latin typeface="Garamond"/>
              </a:rPr>
              <a:t>и его права</a:t>
            </a:r>
            <a:endParaRPr b="1" lang="en-US" sz="6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e4d"/>
                </a:solidFill>
                <a:latin typeface="Garamond"/>
              </a:rPr>
              <a:t>Как вы считаете, отличаются ли права ребенка и подростка от прав взрослого человека?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Право человека</a:t>
            </a:r>
            <a:r>
              <a:rPr b="1" lang="ru-RU" sz="5400" spc="-1" strike="noStrike">
                <a:solidFill>
                  <a:srgbClr val="d8c1ba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–</a:t>
            </a:r>
            <a:r>
              <a:rPr b="1" lang="ru-RU" sz="5400" spc="-1" strike="noStrike">
                <a:solidFill>
                  <a:srgbClr val="d8c1ba"/>
                </a:solidFill>
                <a:latin typeface="Garamond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d8c1ba"/>
                </a:solidFill>
                <a:latin typeface="Garamond"/>
              </a:rPr>
              <a:t>это возможность что – либо делать, поступать определенным образом, иметь что-то</a:t>
            </a: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Право на жизнь</a:t>
            </a: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212" name="Picture 6" descr="bebe09"/>
          <p:cNvPicPr/>
          <p:nvPr/>
        </p:nvPicPr>
        <p:blipFill>
          <a:blip r:embed="rId1"/>
          <a:stretch/>
        </p:blipFill>
        <p:spPr>
          <a:xfrm>
            <a:off x="179280" y="2708280"/>
            <a:ext cx="2016360" cy="20779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340000" y="1341000"/>
            <a:ext cx="6624720" cy="532764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Важное и неотъемлемое право для каждого человека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Право не надо понимать как разрешение или запрет; право – не подарок за хорошее поведение и не привилегия, а такая же необходимость, как воздух, как солнце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Право на жизнь означает, что государство, вся мощь его институтов, учреждений и организаций, направлены на защиту жизни подростка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Жизнь ребенку дают родители, а право на жизнь гарантирует ему государство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свободу и</a:t>
            </a:r>
            <a:br>
              <a:rPr sz="4000"/>
            </a:b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 личную неприкосновенность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771280" y="1628640"/>
            <a:ext cx="6193080" cy="499752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Свободный человек отвечает за себя сам – и никто другой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Свобода состоит в праве делать все то, что не вредит другим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Никто не может насильно удерживать другого человека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Никто не может унижать и оскорблять другого человека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17" name="Picture 8" descr="batterup"/>
          <p:cNvPicPr/>
          <p:nvPr/>
        </p:nvPicPr>
        <p:blipFill>
          <a:blip r:embed="rId1"/>
          <a:stretch/>
        </p:blipFill>
        <p:spPr>
          <a:xfrm>
            <a:off x="108000" y="1989000"/>
            <a:ext cx="2519280" cy="396108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Конвенция о правах ребенка</a:t>
            </a:r>
            <a:br>
              <a:rPr sz="4400"/>
            </a:br>
            <a:r>
              <a:rPr b="1" lang="ru-RU" sz="1800" spc="-1" strike="noStrike">
                <a:solidFill>
                  <a:srgbClr val="d8c1ba"/>
                </a:solidFill>
                <a:latin typeface="Garamond"/>
              </a:rPr>
              <a:t>(принят Организацией Объединенных Наций – ООН в 1989 г.)</a:t>
            </a:r>
            <a:endParaRPr b="1" lang="en-US" sz="18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e4d"/>
                </a:solidFill>
                <a:latin typeface="Garamond"/>
              </a:rPr>
              <a:t>Каждый ребенок имеет право знать своих родителей;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e4d"/>
                </a:solidFill>
                <a:latin typeface="Garamond"/>
              </a:rPr>
              <a:t>Родители несут ответственность за ребенка и должны обеспечить ему нормальные условия жизни.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e4444"/>
                </a:solidFill>
                <a:latin typeface="Garamond"/>
              </a:rPr>
              <a:t>Но, к сожалению, полтора миллиона детей в России никогда не знали маминой ласки и папиной заботы.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неприкосновенность личной жизни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6553440" cy="50688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Сфера жизни человека, в которую государство не имеет право вмешиваться и которая не подлежит контролю с его стороны, и она охраняется законом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Тайный характер частной жизни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Никто не имеет права читать чужие письма, подслушивать телефонные разговоры, собирать сведения о личной жизни человека</a:t>
            </a:r>
            <a:r>
              <a:rPr b="1" lang="ru-RU" sz="28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без разрешения прокуратуры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24" name="Picture 5" descr="7f1"/>
          <p:cNvPicPr/>
          <p:nvPr/>
        </p:nvPicPr>
        <p:blipFill>
          <a:blip r:embed="rId1"/>
          <a:stretch/>
        </p:blipFill>
        <p:spPr>
          <a:xfrm>
            <a:off x="6588000" y="2565360"/>
            <a:ext cx="2376720" cy="24480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8T13:39:48Z</dcterms:modified>
  <cp:revision>7</cp:revision>
  <dc:subject/>
  <dc:title>Актуализация темы: «Подросток как гражданин»</dc:title>
</cp:coreProperties>
</file>